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BDBA-88AC-4567-92EF-9EA552FE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E7A5-DC12-4E8E-A0B7-6CD48461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E18-134F-46E4-9789-123C68A7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78FB-096B-4BFE-A608-BF3B14C3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D010-8DE5-411D-88E0-709EC6A6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CCFD-D263-4B56-8C30-3AA94541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9DB7-8278-41BF-8F6A-0CCAB0D2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020F-504F-4AC2-BC39-93274654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E241-754C-4D99-9A39-2A61AE35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3B08-47E5-480C-A086-398668F2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3E6B-98CC-4E29-BC13-D3330FCD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2719-2374-4803-9B23-5465DB70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1542-5334-45F1-B50E-AACF4FF5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8EF9-99A0-477B-8B34-14455A9C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AE64-9FF4-443F-92D4-4D8DCF64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B69B-CE78-4642-B40B-D08E404A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4C9C-07B9-4C29-8BA0-60FD0496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8E56-6B0E-4B48-9DCF-30D4FFE4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44B6-FD5E-44AA-AF63-B7FA0701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C5DF-2470-4364-87D9-FF8CA1A9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90E4-8239-42E6-A872-AFE3F42F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0F42-09D6-4B64-BFB6-546A1D46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D0EA-CD31-4232-9963-09476925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E4C7-9CA9-4773-85CF-27E539C0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2D55-D96F-471F-AB15-08FD014B3AB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E643-537E-4F2D-9BA6-61DBA4F5AFC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7"/>
          <p:cNvSpPr/>
          <p:nvPr/>
        </p:nvSpPr>
        <p:spPr>
          <a:xfrm>
            <a:off x="743040" y="434880"/>
            <a:ext cx="0" cy="139068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10B4-6B89-4D97-9E53-20DE2ED796B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BD18-C869-40B9-A165-D4C9CD39EE5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6040" y="1338120"/>
            <a:ext cx="113252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 Black"/>
              </a:rPr>
              <a:t>新教材新课进度计划和分层培优讨论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01400" y="3238560"/>
            <a:ext cx="935028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刘秀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2022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5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11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3040" y="20271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1" lang="zh-CN" sz="4800" spc="-1" strike="noStrike">
                <a:solidFill>
                  <a:srgbClr val="000000"/>
                </a:solidFill>
                <a:latin typeface="Arial Black"/>
              </a:rPr>
              <a:t>高中物理新课进度计划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7640" y="258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分层教学做法和讨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4764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基本根据每个老师所教班级为主按成绩分成三个层次，同时全年级物理统筹安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相对较小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较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个学期根据年级组分层教学计划次数，提前预估教学进度，做好分层教学专题计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次培优根据层次不同，所教内容有所区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备课组先讨论配有内容，相应负责老师出专题，同一份资料，区分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,B,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三个层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问题：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楼层走动和纪律问题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人数较多，效果有所欠缺，不能很好的达到针对培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11T00:47:47Z</dcterms:created>
  <dc:creator>Administrator</dc:creator>
  <dc:description/>
  <dc:language>en-US</dc:language>
  <cp:lastModifiedBy>Administrator</cp:lastModifiedBy>
  <dcterms:modified xsi:type="dcterms:W3CDTF">2022-05-11T01:24:2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8506</vt:lpwstr>
  </property>
</Properties>
</file>